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F3B-3277-4409-A6C2-483F3621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E7D-5E6C-4135-8632-3A0399F4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61B13-34C5-41C9-A530-C8C8D123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0CD20-4A41-44E7-9E38-2D52BED6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B8D70-EEC5-4033-A943-351592DF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EEA8A-352A-42F5-B1D6-7F30A555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C7A52-10D7-4208-97D1-659004F9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BB00E-A375-4C6F-8638-20761B1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8114A-E236-47EC-9B59-53B2789B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1E3F9-7A82-4FF4-99EA-233E6676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A5EAF-D472-44BD-AD8A-92418C09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F96-E044-42F2-A4FC-0A57C0E3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70C-5273-4DD9-92DE-F78CF400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A200-2D07-4468-B9A6-C88D84BE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16D7-9322-46BD-AD87-F9B2EBF7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8FA4-64CC-41BA-982A-DEA697F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A81F-37C9-44B4-8245-0E9314D6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39A9-385A-41BD-B475-7EBA3554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FD30-1394-4E0D-BD52-C93888EC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A499-B1B5-4359-A21F-4E677954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B35-A06C-4C28-B1D9-778B8A1C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4693-92B8-48C3-98BC-9E00EFC6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9A49-C761-4F2F-AE2B-5A81F75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5AA2-3045-49D2-A297-C545272A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E080-9A8B-4350-B285-956A78C9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54B9-DE7C-46D5-BA27-175D3399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5771-B489-4FE6-8CF1-4BF31F49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7B40-0CE6-4C0B-B9D4-A7093AE6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6BB5-65B3-4CED-A1CC-F37A3D77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A12B-8991-455E-A454-E1F4BF53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C8E4-8BBD-418C-BB95-0917CBBF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44D-5CF4-4ECC-96B6-0055E0F2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9DC5-7474-4AE7-A25E-737511E9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A3BD5-C3B7-4FBD-A9F5-2370015B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B04B-DE4A-475D-8A5A-920DB4D6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99C4-C93E-40FA-8E6B-0CD8F260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968E-5856-492D-AC86-0FD14854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D00A-0588-4725-8CF5-E7F70A20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61DE-F804-4FC5-9022-9294576B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ABEB-8025-481D-8213-44A5F86F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F1C2D-1B69-4D34-8724-76692A29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23745-84C8-4A11-9C50-6EB683FF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6D5-A683-46D8-A180-09FA9E11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4C68-5551-454E-A7BA-E6D6031A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3C6B-4789-496F-B1A1-11D9538D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32BB7-A371-4D10-9A18-B341B61B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33B9-2C0A-4EE3-BF54-D8D74CC9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ECF79-AD30-45BB-AB31-9CE454DC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FD745-6D53-45A2-A62B-D288FC9C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366BA-1AF1-41C9-B554-AAF071EC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71BA9-29E5-4E8E-BD2F-F9D71575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1680A-B8D5-4250-A372-5343094E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6CFBC-FC2F-4A30-B0A7-64725E6A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0A4-7559-4259-B951-E25DDCD9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33E29-081F-4CD3-BB2B-49327DD6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BA7FF-EBA2-4252-ADBE-E143FBFC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BD4A6-0565-4ECF-9C05-04202C62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6C988-98E6-4488-AC01-68875B1F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3093F-76FC-4540-9511-30EBC0CA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C49C0-751D-4E9D-A1DF-8A2F3F8C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8043B-C44B-43F9-845D-6196D81E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864C-BCEE-407E-879A-C526F633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01EF9-6F7B-4C6E-ADE9-5D7B53B9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AF9A-6D1A-4E65-BCE6-13616780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97C-F74E-4560-B203-6625FAA4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CAC67-63EE-4C9F-8E80-BE47B632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03EB8-6380-4178-A344-750EC795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160F-E911-4A96-8A2D-1C28D130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FC2C8-A6AD-4B5B-AD1E-110ECDEF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07949-5C84-41FF-8877-6AA59072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B28D-83CC-445B-A109-5A0C0804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C745A-5586-4C29-A209-33A3CB9D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59461-BCED-4874-8EBF-6CBC16F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6851E-D939-482F-8A23-A80BF278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99A48-4C82-4A65-B684-4EDCDD55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C59-C05E-4B79-BEAA-5C81CB6C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CB4A4-0220-4388-8F43-39F86DFC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C5D08-986B-4139-B841-0762155D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73ADB-F85C-4163-BAA1-DA424623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75538-079B-470B-B3E7-86CC8482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1A1D8-C190-401B-A6E1-0D8AF0D0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7D0D6-CEF2-4D69-A34A-8FF41CAF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7B514-9589-4435-93B4-89EDB63A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7C939-A652-4C90-A6B0-DAEE2E4D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7B80F-B1FE-4AB6-98D8-72DE3F20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FEB19-3C29-48C0-8DD9-0C9171D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6E1-9B9B-47D2-BA89-F57465C3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25A54-D7EF-48E5-95C9-CE506F0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D2AAB-450E-4A89-A63B-E06F45E3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1CE7E-ED7C-4E2C-AF47-9A1F6D64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51D25-0C21-48B8-A66E-CBC60F5D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AF8CA-4427-4AF7-B8C6-8CA4BC76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48A83-F1A7-4985-8829-45C98C72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1C993-42B1-40B5-851C-9D2A40B2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DDF65-41A5-44A5-8D3C-CDBB2B0A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CB256-840C-43FF-8EED-BC414F05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3DDFF-14B9-4C73-BBC1-E4F03877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208-6897-4F2C-85DD-4633818B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2ABA9-96CA-47EB-9C67-4BE4813D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72481-18EE-4C63-B962-EAD127A7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57070-7751-4019-9BEE-4D84E03A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7B84D-F5A1-47CE-99C9-74F90225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4046D-8A54-4425-A3AF-61EAD31F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AAA9B-B174-4603-BA14-B6D2AD43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98C31-36E7-4FFA-B8FD-9BCF07D3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020A2-0826-46DE-8DB2-7F554628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D9F72-3A93-48F9-892E-4576DFD0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481E4-318C-4B9A-8B4B-BFC3403A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9218B-681E-4A63-B5F9-25B057F392F3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EC2BD-F79C-4912-9075-F41911DA0BE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7962A-8FED-4E42-BF48-18AD5EFE9A1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C9BA6-BA21-499F-BBFA-6EBB5894E8B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C43C4-8AB3-4EF7-96B5-129282D5A34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33FBA-BE4D-4150-8FC8-F0EA04195C7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72979-DF6E-4E4B-ACE2-68D6331ABB8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83274-5229-4293-9654-63ABA4446DB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FACE9-6462-46C5-B89B-3F2EC60787FF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C1111-BD8E-43F4-AB16-829CEE74BCC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B8D78-A0DB-4A27-BFCC-863E79DDB0CC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6D248-E7C7-453B-A1DC-426B8D70FFE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6742E-92BF-454C-B0D3-56FFED07C72E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545AD-8609-4819-96A1-67E9AF8F3D0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60BBA-85AE-4A52-B35B-CC825CB70C94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901D3-EC8C-491C-85D4-A8BB100E00E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93ED7-D427-40BB-AEA6-99FF700D38C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32E46-3371-4903-B161-863C25E12A2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2"/>
          <a:stretch/>
        </p:blipFill>
        <p:spPr>
          <a:xfrm>
            <a:off x="378000" y="4846680"/>
            <a:ext cx="8467560" cy="1236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43329"/>
                </a:solidFill>
                <a:latin typeface="Franklin Gothic Book"/>
              </a:rPr>
              <a:t>Atomic Structure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ton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ectr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utr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cleu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ectron Clou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tons – positive charg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ectrons – Negative charg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utrons – No Charge (neutral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cleus – Contain Protons and Neutr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ectron Cloud – Are outside the nucleus where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                  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ectrons may be foun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pic>
        <p:nvPicPr>
          <p:cNvPr id="406" name="Content Placeholder 3" descr=""/>
          <p:cNvPicPr/>
          <p:nvPr/>
        </p:nvPicPr>
        <p:blipFill>
          <a:blip r:embed="rId3"/>
          <a:stretch/>
        </p:blipFill>
        <p:spPr>
          <a:xfrm>
            <a:off x="298440" y="1511280"/>
            <a:ext cx="8699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Macintosh HD:Users:student:Desktop:st_screencast.mov" descr=""/>
          <p:cNvPicPr/>
          <p:nvPr/>
        </p:nvPicPr>
        <p:blipFill>
          <a:blip r:embed="rId2"/>
          <a:stretch/>
        </p:blipFill>
        <p:spPr>
          <a:xfrm>
            <a:off x="1014480" y="1554120"/>
            <a:ext cx="726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478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mber of Prot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quals the Atomic Numb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47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mber of Electr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quals Number of Prot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tons Equals Atomic Numb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47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mber of Neutr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quals Mass Numb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inus Atomic Numb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ss Numb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-   Atomic Numb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4e3b30"/>
                </a:solidFill>
                <a:uFillTx/>
                <a:latin typeface="Franklin Gothic Book"/>
              </a:rPr>
              <a:t>-----------------------------------------------------------------------------------------------------------------------------------</a:t>
            </a: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umber of Neutr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304920" y="1812960"/>
          <a:ext cx="8686800" cy="200664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84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Number of Pro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Number of Elec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Number of Neu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17" name="Rectangle 6"/>
          <p:cNvSpPr/>
          <p:nvPr/>
        </p:nvSpPr>
        <p:spPr>
          <a:xfrm>
            <a:off x="685800" y="4398840"/>
            <a:ext cx="213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o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22.98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34340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8:39:39Z</dcterms:created>
  <dc:creator>College of Education</dc:creator>
  <dc:description/>
  <dc:language>en-US</dc:language>
  <cp:lastModifiedBy>College of Education</cp:lastModifiedBy>
  <dcterms:modified xsi:type="dcterms:W3CDTF">2009-07-25T19:04:06Z</dcterms:modified>
  <cp:revision>2</cp:revision>
  <dc:subject/>
  <dc:title>By Mrs. M. Wade</dc:title>
</cp:coreProperties>
</file>